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066F-9979-4F35-9EF3-7D6A0BA6F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BE63-C582-49A8-82CC-EFAAB011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8B43-F8F0-41AF-AB5E-B12AC82DB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98D6-73D4-4320-BB62-B3D4C6C3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53E6-7D06-48A3-9DA9-DC7812705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E0B0-BE07-4B11-826F-2C0F42F6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3352-51C9-4571-A101-84BEF68CD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495-D928-412C-93E0-E8198430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D94-D5EA-4C0C-91E7-6BAECEFA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F0B6-750C-4096-BCFF-0495E495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C17-292E-4145-90CB-2ED4DFF2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857A-CD5B-4708-9814-E298CEF8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F702-BF7B-40D4-8C13-E3192B2A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E790-9050-444B-A1B7-D050B129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9B4A-01CF-48B6-AFAD-A39693CF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2277-B810-41FF-B32B-0083CAE1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D6C2-2225-4ACC-98E3-971FA707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F60C-9D33-4446-B674-E41BE98A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6B8-DA1E-4184-B1D6-2BEC6AE5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1A67-CCC6-42BA-B2E9-A4600496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133C-F3F2-4229-AB99-D978A999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7F09-E934-4201-89BB-F4AFF502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0C80-4E99-439E-A4E0-4AACFAA6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451D-4A32-4364-B70A-BE5BF46F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08A-460C-42CB-80C7-72254D74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D8F-A21E-4497-B130-3FFA1C77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3C9-A174-454C-B11D-BFCE26F7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5E0-7622-426F-A26D-B68BCE4F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996-44C5-45CA-AE2E-8CB28E01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88B-E76E-4D95-9929-1401CFD3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85D-6C1C-421B-B75C-D9069B40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96E4-55F7-4A97-A43C-8491987D2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My Documents\My Webs\soniacoleman\PowerPoint Templates\Templates9\Leaf\leaf_title.jpg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35B6-E0E3-4A11-8FF1-7DD697754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cents, Fractions, and Dec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action by any other name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erc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 ratio that compares a number to 100.  It means “per 100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9 out of 100 is 49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NT:  PART OF 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ercents as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a decimal point in the place of the percent sign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 the decimal two spaces to the lef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 same as dividing by 1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90720" y="3809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3124080" y="4267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800600" y="379404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2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990720" y="4861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3124080" y="5334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724280" y="48610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594360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934320" y="48610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066680" y="577548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2666880" y="6248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952880" y="569916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ercents as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e percent in a fra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a denominator of 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the f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38080" y="32004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666880" y="3733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38098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62520" y="3200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809880" y="3701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50292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095880" y="3200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6095880" y="3701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838080" y="455616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26668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388620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4038480" y="4419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3886200" y="4921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510552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6019920" y="5029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6172200" y="4419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172200" y="4921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Decimals as Per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he decimal poi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spaces to the r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dd a % symbol (this is the same as multiplying by 1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32004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1981080" y="3733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276720" y="3124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33520" y="402264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98108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200400" y="394668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33520" y="470844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1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200400" y="470844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62120" y="5562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1752480" y="6095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3276720" y="5546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5562720" y="3124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61722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6781680" y="318456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Fractions as Per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 the numerator by the denominator to get a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decimal to a percent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ing the decimal point to the righ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ltiply by 1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38080" y="4191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6858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5800" y="47847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18288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8120" y="4632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26708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410080" y="463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2:15:19Z</dcterms:created>
  <dc:creator>Josh Hammond</dc:creator>
  <dc:description/>
  <dc:language>en-US</dc:language>
  <cp:lastModifiedBy>Home</cp:lastModifiedBy>
  <dcterms:modified xsi:type="dcterms:W3CDTF">2010-11-14T16:47:02Z</dcterms:modified>
  <cp:revision>14</cp:revision>
  <dc:subject/>
  <dc:title>Percents, Fractions, and Decimals</dc:title>
</cp:coreProperties>
</file>